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9044-6748-4CFE-AB2C-9A1F34C68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FFE2-C65B-44F8-A131-7FD362A7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3E6A-1526-4969-AF29-B80D7C2A0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F74E-19D0-411D-B5DC-B4182104C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0B98-94A2-4ADD-89BA-6F11865F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7D26-56E1-491D-843F-9439B5AD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4B82-34A5-41BD-8E8D-ED09937B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22ED-1118-45B0-A948-8D1E8610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A3B3-8913-4B6E-B7AA-7D2FED77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9D79-3569-4F93-BC38-AA7D35D0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DB14-75DF-45D6-A503-9547AC81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E1BC-AEFE-4631-A1B4-CB7D8B29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91A6-3944-4EC2-85D6-8C02F88EF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1989000"/>
            <a:ext cx="73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2421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377F-EAED-4F74-A44F-A144D22F319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360" y="2349000"/>
            <a:ext cx="8229600" cy="26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’azione dei Fondi negli Stati membri assume la forma di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ogrammi operativi all’interno del quadro di riferimento strategico nazional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gni programma operativo copre un periodo tra il 1 gennaio 2007 e il 31 dicembre 201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 programma operativo copre solo uno dei tre obiettivi comunitari, salvo deroga concordata tra lo Stato membro e la Commissi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472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azione e approvazione dei programmi operativ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31C5-9A3C-4A65-9A0F-6471C76B96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472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a di intervento programmazione 2007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186732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Decade la precedente suddivisione del territorio a livello intraregionale di cui al previgente art. 4 del regolamento (CE) 1260/9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’area di intervento è determinata a livello region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(e copre l’intero territorio della Regione interessat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ulla base dell’elenco presentato dallo Stato alla Commissione Europea (art.6 reg. (CE) 1083/200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6073-6FA1-4A63-BF1F-4CE194A7AA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755280" y="620280"/>
            <a:ext cx="7705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ovi Obiet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6000" y="126828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grammazione 2000 -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48000" y="249228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63640" y="1844640"/>
            <a:ext cx="3095640" cy="127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o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muovere lo sviluppo e l’adeguamento strutturale delle Regioni che presentano ritardi nello svilup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40360" y="1268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mazione 2007 -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63640" y="3357720"/>
            <a:ext cx="3095640" cy="10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o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vorire la riconversione economica e sociale delle zone con difficoltà struttur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63640" y="4724280"/>
            <a:ext cx="3095640" cy="10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o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vorire l’ammodernamento delle politiche  e dei sistemi di istruzione, formazione e occup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48000" y="393228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40360" y="4221000"/>
            <a:ext cx="93636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72000" y="1844640"/>
            <a:ext cx="3456000" cy="1281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iettiv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Converge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celerare la convergenza degli Stati membri e regioni, in ritardo di sviluppo, migliorando le condizioni di cres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72000" y="3357720"/>
            <a:ext cx="3456000" cy="106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iettiv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Competitività regionale e occup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fforzare la competitività e le attrattive delle regioni e l’occup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40360" y="4508640"/>
            <a:ext cx="3887640" cy="160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iettiv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Cooperazione territoriale europ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fforzare la cooperazione transfrontaliera e transnazionale mediante iniziative congiunte locali e region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stituisce tutti i vari programmi INTERE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2FAD-8FF7-4BDA-B6A9-F6BFF80F3F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12360" y="620640"/>
            <a:ext cx="77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ove Autor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7280" y="141300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grammazione 2000 -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2400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48000" y="263700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3280" y="1989000"/>
            <a:ext cx="3456000" cy="10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utorità di Gest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Ad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eposta alla gestione di un programma comunit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40360" y="141300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mazione 2007 -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3280" y="3284640"/>
            <a:ext cx="3456000" cy="130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utorità di Pag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Ad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eposta a elaborare e presentare  le richieste di pagamento e di ricevere i pagamenti dalla Commissione Europ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3280" y="4869000"/>
            <a:ext cx="3456000" cy="141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ervizio di Controllo Comunit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volge attività di controllo sul sistema di gestione e sull’attendibilità delle domande finali di pagamento inoltrate alla Commissione Europe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Reg.  CE 438/200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48000" y="393372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48000" y="537372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72000" y="1989000"/>
            <a:ext cx="3456000" cy="106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ffffff"/>
                </a:solidFill>
                <a:uFillTx/>
                <a:latin typeface="Arial"/>
              </a:rPr>
              <a:t>Autorità di Gest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i="1" lang="it-IT" sz="1400" spc="-1" strike="noStrike" u="sng">
                <a:solidFill>
                  <a:srgbClr val="ffffff"/>
                </a:solidFill>
                <a:uFillTx/>
                <a:latin typeface="Arial"/>
              </a:rPr>
              <a:t>(Ad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Preposta alla gestione di un programma comunit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72000" y="3284640"/>
            <a:ext cx="3456000" cy="1281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ffffff"/>
                </a:solidFill>
                <a:uFillTx/>
                <a:latin typeface="Arial"/>
              </a:rPr>
              <a:t>Autorità di Certificazio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ffffff"/>
                </a:solidFill>
                <a:uFillTx/>
                <a:latin typeface="Arial"/>
              </a:rPr>
              <a:t>(Ad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Preposta a certificare  le dichiarazioni di spesa e le domande di pagamento prima del loro invio alla Commissio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72000" y="4869000"/>
            <a:ext cx="3456000" cy="1281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Autorità di Audi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(Ad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Responsabile  della verifica dell’efficace funzionamento del sistema di gestione  e di cont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87C4-BA9F-460E-9A22-EFD513245E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 E P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ogrammi Oper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QSN si attua tramite i Programmi Operativi, documenti che declinano le priorità strategiche per settori e territo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el ciclo di programmazione 2007-2013 i 66 PO sono "monofondo", ciascun PO sarà cofinanziato da un solo Fondo strutturale. Ci sono dunque 42 PO finanziati dal Fondo Europeo di Sviluppo Regionale (FESR) e 24 PO finanziati dal Fondo Sociale Europeo (F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base alle tematiche affrontate e ai soggetti istituzionali competenti, i PO possono ess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azionali (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O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: in settori con particolari esigenze di integrazione a livello nazionale, la cui Autorità di Gestione è una Amministrazione Centrale (5 FESR, 3 FS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gionali (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O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: multisettoriali, riferiti alle singole regioni gestiti dalle Amministrazioni Regionali. Per ciascuna Regione c’è un POR FESR e un POR FSE (21 FESR, 21 FS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A011-4BA2-4D89-983C-30B15206AB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PON E P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terregionali (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OIN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): su tematiche in cui risulta particolarmente efficace un’azione fortemente coordinata fra Regioni che consenta di cogliere economie di scala e di scopo nell’attuazione degli interventi (Energia, Attrattori culturali naturali e turismo); gestiti dalle Regioni, con la partecipazione di centri di competenza nazionale o Amministrazioni centrali (2 FESR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 PO – ai fini della realizzazione degli interventi – si riferiscono ai tre Obiettivi della politica di coesione 2007/2013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tto la sigl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R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Competitività Regionale e Occupazione) sono compresi i 33 PO che riguardano tutte le regioni del Centro Nord – incluse le Province Autonome di Bolzano e Trento - e le tre regioni del Mezzogiorno: Abruzzo, Molise e Sardegn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tto la sigl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V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Convergenza), sono compresi i 19 PO che riguardano le rimanenti regioni del Mezzogiorno: Basilicata, Calabria, Campania, Puglia e Sicili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tto la sigl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T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Cooperazione territoriale europea) sono compresi i 7 PO della cooperazione transfrontaliera, di cui 6 hanno come Autorità di Gestione una Regione italiana, i 4 PO della cooperazione transnazionale, tutti con Autorità di Gestione non Italiana, il PO cofinanziato dal FESR e dallo strumento di preadesione (IPA), i 2 PO cofinanziati dal FESR e dallo strumento di prossimità e di vicinato (ENPI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98D8-1F06-4C19-BC24-3FE0F6F341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79640" y="33336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162864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rt.158 Trat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378936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rt.159 Trat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206064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 promuovere uno sviluppo armonioso dell'insieme della Comunità, questa sviluppa e prosegue la propria azione intesa a realizzare il rafforzamento della sua coesione economica e socia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particolare la Comunità mira a ridurre il divario tra i livelli di sviluppo delle varie regioni ed il ritardo delle regioni meno favorite o insulari, comprese le zone rural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4076640"/>
            <a:ext cx="792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li Stati membri conducono la loro politica economica e la coordinano anche al fine di raggiungere gli obiettivi dell'articolo 158. L'elaborazione e l'attuazione delle politiche e azioni comunitarie, nonché l'attuazione del mercato interno tengono conto degli obiettivi dell'articolo 158 e concorrono alla loro realizzazione. La Comunità appoggia questa realizzazione anche con l'azione che essa svolge attraverso fondi a finalità strutturale (Fondo europeo agricolo di orientamento e di garanzia, sezione « orientamento », Fondo sociale europeo, Fondo europeo di sviluppo regionale), la Banca europea per gli investimenti e gli altri strumenti finanziari esisten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6620-E6B5-4CCA-984E-89AD2E4B70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8000" y="2205000"/>
            <a:ext cx="86407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rtt.158 e 159 del Tratta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golamento (CE) 1080/2006 dd. 5 luglio 2006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regolamento FER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golamento (CE) n.1081/2006 dd. 5 luglio 2006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regolamento FS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golamento (CE) n.1083/2006 dd.11 luglio 2006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regolamento gener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33336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1197000"/>
            <a:ext cx="770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nti normat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3716280"/>
            <a:ext cx="77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ovo approccio comunitario ai fondi struttura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4508640"/>
            <a:ext cx="7921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recepimento delle priorità comunitarie per uno sviluppo sostenibile, definite nel Consiglio europeo di Lisbona del 23 e 24 marzo 2000 e del Consiglio europeo di Goteborg del 15 e 16 giugno 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La politica di coesione inquadra l’intervento dei Fondi strutturali non più quale atto aggiuntivo ed addizionale rispetto alle politiche di sviluppo nazionali ma quale elemento integrato, con le stesse,  preposto a garantire un ottimale e coordinato utilizzo di tali Fondi all’interno di un quadro strategico di sviluppo nazionale d’insieme che tenga conto tanto dei finanziamenti nazionali quanto di quelli europei in una visione integrata e priva di sovrapposizioni o di caren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9BBE-48CC-4B1A-9AA0-BB6548D95A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0436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CIPI DI INTERVENT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184464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MPLEMENTARIETÀ, COERENZA E CONFORMIT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2924280"/>
            <a:ext cx="6769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 Fondi intervengono a complemento delle azioni nazionali, regionali e locali, integrandovi le priorità della Comunità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 Commissione e gli Stati membri vigilano sulla coerenza dell’intervento dei Fondi e di quello degli Stati membri con le azioni, le politiche e le priorità della Comunità. La coerenza, in particolare, si fissa negli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rientamenti strategici della Comunità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nel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quadro di riferimento strategico nazional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ei programmi operativ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o il seguente sch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84720" y="2276640"/>
            <a:ext cx="0" cy="50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539640" y="4869000"/>
            <a:ext cx="1584360" cy="1152360"/>
            <a:chOff x="539640" y="4869000"/>
            <a:chExt cx="1584360" cy="1152360"/>
          </a:xfrm>
        </p:grpSpPr>
        <p:sp>
          <p:nvSpPr>
            <p:cNvPr id="59" name=""/>
            <p:cNvSpPr/>
            <p:nvPr/>
          </p:nvSpPr>
          <p:spPr>
            <a:xfrm>
              <a:off x="539640" y="5084640"/>
              <a:ext cx="1584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rientamenti strategici comunitar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11280" y="4869000"/>
              <a:ext cx="1441440" cy="11523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2195640" y="54450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5157720"/>
            <a:ext cx="194472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uadro strategico naziona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35640" y="544500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6804000" y="4508640"/>
            <a:ext cx="1944720" cy="1873080"/>
            <a:chOff x="6804000" y="4508640"/>
            <a:chExt cx="1944720" cy="1873080"/>
          </a:xfrm>
        </p:grpSpPr>
        <p:sp>
          <p:nvSpPr>
            <p:cNvPr id="65" name=""/>
            <p:cNvSpPr/>
            <p:nvPr/>
          </p:nvSpPr>
          <p:spPr>
            <a:xfrm>
              <a:off x="6877080" y="5157720"/>
              <a:ext cx="1728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ocumento di programmazi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804000" y="4508640"/>
              <a:ext cx="1944720" cy="1873080"/>
            </a:xfrm>
            <a:prstGeom prst="diamond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50BF-C001-4E0E-AADE-05B57E097F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472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o di intervento dei vari documenti all’interno della programmazione 2007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3429000"/>
            <a:ext cx="2590560" cy="93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quadramento degli obiettivi comunitari all’interno di quadro di riferimento strategico nazion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QS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71640" y="4581360"/>
            <a:ext cx="274176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lizzazione di un Documento Unitario regionale per la realizzazione della politica di Coes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5589720"/>
            <a:ext cx="36576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gramma Ope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tilizzo coordinato ed integrato dei Finanziame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comunitari, nazionali, regiona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132000" y="1844640"/>
            <a:ext cx="1944720" cy="1439640"/>
            <a:chOff x="3132000" y="1844640"/>
            <a:chExt cx="1944720" cy="1439640"/>
          </a:xfrm>
        </p:grpSpPr>
        <p:sp>
          <p:nvSpPr>
            <p:cNvPr id="73" name=""/>
            <p:cNvSpPr/>
            <p:nvPr/>
          </p:nvSpPr>
          <p:spPr>
            <a:xfrm>
              <a:off x="3205080" y="2205000"/>
              <a:ext cx="182880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rientamenti strategici e definizione obiettivi Comunitar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132000" y="1844640"/>
              <a:ext cx="1944720" cy="14396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4C90-F05B-4116-8B42-440C1B36C9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472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1557360"/>
            <a:ext cx="799128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iorit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ndere più attraenti gli Stati membri, le regioni e le città migliorando l’accessibilità, garantendo una qualità e un livello adeguati di servizi e tutelando l’ambien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muovere l’innovazione, l’imprenditorialità e lo sviluppo dell’economia della conoscenza mediante lo sviluppo della ricerca e dell’innovazione, comprese le nuove tecnologie dell’informazione e della comunicazion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eare nuovi e migliori posti di lavoro attirando un maggior numero di persone verso il mercato del lavoro o l’attività imprenditoriale, migliorando l’adattabilità dei lavoratori e delle imprese e aumentando gli investimenti nel capitale uma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La strategia di Lisbon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rinnovata per la crescita e l’occupazione e i programmi nazionali di riforma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sottolineano il ruolo dell’ambiente per la crescita, la competitività e l’occupaz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ccorre tener conto della protezione dell’ambiente nella preparazione dei programmi e dei progetti volti a promuovere lo sviluppo sostenib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03280" y="112536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ientamenti strategici comunit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6237360"/>
            <a:ext cx="777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municazione al Consiglio europeo di primavera - “Lavorare insieme per la crescita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’occupazione - Il rilancio della strategia di Lisbona”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 (2005) 24, 2.2.2005.11807/06 DT/gm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FD09-77C7-4891-82D9-BCA7FDEBDC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79640" y="33336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981000"/>
            <a:ext cx="770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or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6920" y="1628640"/>
            <a:ext cx="7704360" cy="18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l quadro delle priorità di finanziamento dei Fondi Comunitari viene definito secondo un rapporto gerarchico  d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Regolamento comunitario 1083/200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Quadro Strategico Nazionale (QS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art.27 Reg. (CE) 1083 /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429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orità comunita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3789360"/>
            <a:ext cx="230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dere le Regioni e l’Europa  più attraenti per gli investime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932360" y="3860640"/>
            <a:ext cx="2087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muovere l’innovazione e la conoscenza a favore della cres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16360" y="3860640"/>
            <a:ext cx="17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ovi e migliori posti di lavo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48360" y="3860640"/>
            <a:ext cx="18003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mensione territori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rale/urb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4581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orità nazion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5011560"/>
            <a:ext cx="208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glioramento e valorizzazione delle risorse um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40000" y="4869000"/>
            <a:ext cx="2303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mozione e valorizzazione della ricerca  della innovazione per la competitivi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16360" y="4940280"/>
            <a:ext cx="165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o sostenibile ed efficiente delle risorse ambient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45080" y="5011560"/>
            <a:ext cx="20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orizzazione delle risorse natur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6920" y="5877000"/>
            <a:ext cx="14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rattività territori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11280" y="609300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i e collegame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11640" y="5805360"/>
            <a:ext cx="15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razione investimenti internazion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12000" y="5805360"/>
            <a:ext cx="12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ver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236000" y="5734080"/>
            <a:ext cx="17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etitività sistemi produttiv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08720" y="6237360"/>
            <a:ext cx="259236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etitività cit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viluppo urbano sostenib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373A-95F4-4C8D-AE91-0CDAD8A0E7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5528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 Unitario di Programmazione della Politica regionale di Coe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1844640"/>
            <a:ext cx="7058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e disposizioni del Quadro Strategico Nazionale (QSN) prevedono che ogni Regione adotti un documento nel quale declinare  la strategia specifica di politica regionale  di coesione all’interno della propria programmazione gener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48000" y="2852640"/>
            <a:ext cx="2519280" cy="580680"/>
          </a:xfrm>
          <a:prstGeom prst="rect">
            <a:avLst/>
          </a:prstGeom>
          <a:solidFill>
            <a:srgbClr val="ff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umento Unitario di program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5013360"/>
            <a:ext cx="223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i generali comunitari con riferimento alle priorità definite dal QS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64000" y="551664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i politica region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0" y="6021360"/>
            <a:ext cx="194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cazione strumenti di Attu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6021360"/>
            <a:ext cx="208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i specifici comunitari region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72360" y="515772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artenar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4076640"/>
            <a:ext cx="237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dro di programmazione finanziaria unitaria delle riso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08360" y="4221000"/>
            <a:ext cx="20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orità regional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64000" y="508464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ndi nazion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72360" y="5950080"/>
            <a:ext cx="23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ndi Comunitari politica agric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00720" y="4076640"/>
            <a:ext cx="23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ndi strutturali della politica di coes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92360" y="3500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C541-EBF5-4065-B7C4-E5BD2A5EF0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0436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rmini presentazione documenti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95280" y="2133720"/>
            <a:ext cx="1584360" cy="1152360"/>
            <a:chOff x="395280" y="2133720"/>
            <a:chExt cx="1584360" cy="1152360"/>
          </a:xfrm>
        </p:grpSpPr>
        <p:sp>
          <p:nvSpPr>
            <p:cNvPr id="117" name=""/>
            <p:cNvSpPr/>
            <p:nvPr/>
          </p:nvSpPr>
          <p:spPr>
            <a:xfrm>
              <a:off x="395280" y="2349360"/>
              <a:ext cx="1584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rientamenti strategici comunitar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6920" y="2133720"/>
              <a:ext cx="1441440" cy="11523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195640" y="26370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716280"/>
            <a:ext cx="194436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uadro strategico naziona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71640" y="400536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95280" y="4581360"/>
            <a:ext cx="1944720" cy="1873080"/>
            <a:chOff x="395280" y="4581360"/>
            <a:chExt cx="1944720" cy="1873080"/>
          </a:xfrm>
        </p:grpSpPr>
        <p:sp>
          <p:nvSpPr>
            <p:cNvPr id="123" name=""/>
            <p:cNvSpPr/>
            <p:nvPr/>
          </p:nvSpPr>
          <p:spPr>
            <a:xfrm>
              <a:off x="468360" y="5230440"/>
              <a:ext cx="1728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ocumento di programmazi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5280" y="4581360"/>
              <a:ext cx="1944720" cy="1873080"/>
            </a:xfrm>
            <a:prstGeom prst="diamond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564000" y="1989000"/>
            <a:ext cx="3456000" cy="12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ro il 1 febbraio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emine massim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La commissione ha approvato gli orientamenti 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ottobre 2006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84720" y="3716280"/>
            <a:ext cx="3456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ro 5 mesi dall’adozione degli orientamenti strategici comunit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marzo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59280" y="5516640"/>
            <a:ext cx="158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5157720"/>
            <a:ext cx="345600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l più breve tempo possibile e comunque non oltre 5 mesi dall’adozione degli orientamenti strategici comunitari ovvero entro il 6 marzo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BF3F-B4B5-48A6-80CE-D1E2D07C71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12:48:50Z</dcterms:created>
  <dc:creator>utente</dc:creator>
  <dc:description/>
  <dc:language>en-US</dc:language>
  <cp:lastModifiedBy>giampiero bianchini</cp:lastModifiedBy>
  <dcterms:modified xsi:type="dcterms:W3CDTF">2008-06-02T21:44:03Z</dcterms:modified>
  <cp:revision>63</cp:revision>
  <dc:subject/>
  <dc:title>Diapositiva 1</dc:title>
</cp:coreProperties>
</file>